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704-A55A-4BD0-8D5D-B4AD83A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071-2255-4F7E-977B-65125DDC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F76-8926-44AD-A28B-A187D386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88A-F5AE-4D35-92C0-9C26E39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5A8-241D-4950-AB0B-4402375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AB0-F26A-4359-B96D-9D69E8C1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661-2AB9-45F4-BBD9-581DAD7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563-B83D-4690-9B83-ABF9EA4C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16E-FC69-412F-BE72-D627B05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53D-BDFE-43EA-AC6F-8B00CF7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400-8C52-4457-A051-174B78C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449-8D97-4E98-BAE8-7B33591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22A-83F8-4737-ABE4-6902726B1C0F}" type="slidenum">
              <a:rPr b="0" lang="en-US" sz="1200" spc="-1" strike="noStrike">
                <a:solidFill>
                  <a:srgbClr val="cc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0012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976560" cy="656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croscope Basic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63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82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2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6019920" y="175248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SUPPORT the microscope when c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5181480" y="1981080"/>
            <a:ext cx="9144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5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019920" y="175248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SUPPORT the microscope when c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 flipH="1">
            <a:off x="5181480" y="1981080"/>
            <a:ext cx="9144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8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07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2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522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426708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4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44:21Z</dcterms:created>
  <dc:creator>Geneva Baker</dc:creator>
  <dc:description/>
  <dc:language>en-US</dc:language>
  <cp:lastModifiedBy>Howard County Administrator</cp:lastModifiedBy>
  <dcterms:modified xsi:type="dcterms:W3CDTF">2013-09-27T19:56:14Z</dcterms:modified>
  <cp:revision>4</cp:revision>
  <dc:subject/>
  <dc:title>Microscope Basics</dc:title>
</cp:coreProperties>
</file>